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241-90FA-4F9C-B65B-6D9077AF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418-04A5-470A-BD95-E3533AE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E01-6338-4497-8A51-9B6AFE35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ACF-2D60-4E0C-B7FA-E7BD684B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BA6-0C88-4E4B-87B1-2E41ABEB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462-B9DB-4678-9F88-403116B1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807-1B4B-4D9E-8EFD-0631567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301-FB9B-4704-9A01-5FA8166D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B69-4B53-47DF-8296-71757C4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AF2-FE42-4D2D-A9DC-CB19FB7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CB1-7263-47B2-8387-E7DD53B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CB9-A5C3-4C26-AC11-D75ABB87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BC2-884C-4DE9-ADEE-5CD038DA5F4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0  Úchvatná lásk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iaľkou blíz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chvatná Lásk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iaľkou blíz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sa krstom priznáva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vam ti, P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rúcnu chvá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v tebe spásu poznáva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stvo kríža smer mi 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úzkej k výšin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úzkostiach, tiesn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útku, ži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techy žriedlo buď  mi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úžiaca Lásk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pri m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 tvojej službe vytrv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46:57Z</dcterms:modified>
  <cp:revision>23</cp:revision>
  <dc:subject/>
  <dc:title>Je veľký náš Pán, on slávy je Kráľ Nech do všetkých strán  spev vrúcnych znie chvál.</dc:title>
</cp:coreProperties>
</file>